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300" spc="-1" strike="noStrike">
                <a:solidFill>
                  <a:srgbClr val="000000"/>
                </a:solidFill>
                <a:latin typeface="Arial"/>
              </a:defRPr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Vývoj počtu klientů OP Třebíč
Dluhová oblast</a:t>
            </a:r>
          </a:p>
        </c:rich>
      </c:tx>
      <c:layout>
        <c:manualLayout>
          <c:xMode val="edge"/>
          <c:yMode val="edge"/>
          <c:x val="0.372706721154682"/>
          <c:y val="0.029931034482758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74984783931832"/>
          <c:y val="0.204827586206897"/>
          <c:w val="0.768759238327102"/>
          <c:h val="0.540551724137931"/>
        </c:manualLayout>
      </c:layout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počet klientů</c:v>
                </c:pt>
              </c:strCache>
            </c:strRef>
          </c:tx>
          <c:spPr>
            <a:solidFill>
              <a:srgbClr val="ff3333"/>
            </a:solidFill>
            <a:ln w="28800">
              <a:solidFill>
                <a:srgbClr val="ff3333"/>
              </a:solidFill>
              <a:round/>
            </a:ln>
          </c:spPr>
          <c:marker>
            <c:symbol val="square"/>
            <c:size val="8"/>
            <c:spPr>
              <a:solidFill>
                <a:srgbClr val="ff3333"/>
              </a:solidFill>
            </c:spPr>
          </c:marker>
          <c:dLbls>
            <c:numFmt formatCode="General" sourceLinked="0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t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2007</c:v>
                </c:pt>
                <c:pt idx="1">
                  <c:v>2008</c:v>
                </c:pt>
                <c:pt idx="2">
                  <c:v>2009</c:v>
                </c:pt>
                <c:pt idx="3">
                  <c:v>2010</c:v>
                </c:pt>
                <c:pt idx="4">
                  <c:v>2011</c:v>
                </c:pt>
                <c:pt idx="5">
                  <c:v>2012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89</c:v>
                </c:pt>
                <c:pt idx="1">
                  <c:v>234</c:v>
                </c:pt>
                <c:pt idx="2">
                  <c:v>329</c:v>
                </c:pt>
                <c:pt idx="3">
                  <c:v>260</c:v>
                </c:pt>
                <c:pt idx="4">
                  <c:v>397</c:v>
                </c:pt>
                <c:pt idx="5">
                  <c:v>563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90589350"/>
        <c:axId val="47166174"/>
      </c:lineChart>
      <c:catAx>
        <c:axId val="90589350"/>
        <c:scaling>
          <c:orientation val="minMax"/>
        </c:scaling>
        <c:delete val="0"/>
        <c:axPos val="b"/>
        <c:title>
          <c:tx>
            <c:rich>
              <a:bodyPr rot="0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Arial"/>
                  </a:defRPr>
                </a:pPr>
                <a:r>
                  <a:rPr b="0" sz="1200" spc="-1" strike="noStrike">
                    <a:solidFill>
                      <a:srgbClr val="000000"/>
                    </a:solidFill>
                    <a:latin typeface="Arial"/>
                  </a:rPr>
                  <a:t>období</a:t>
                </a:r>
              </a:p>
            </c:rich>
          </c:tx>
          <c:layout>
            <c:manualLayout>
              <c:xMode val="edge"/>
              <c:yMode val="edge"/>
              <c:x val="0.488392313711851"/>
              <c:y val="0.930827586206897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66174"/>
        <c:crosses val="autoZero"/>
        <c:auto val="1"/>
        <c:lblAlgn val="ctr"/>
        <c:lblOffset val="100"/>
        <c:noMultiLvlLbl val="0"/>
      </c:catAx>
      <c:valAx>
        <c:axId val="471661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title>
          <c:tx>
            <c:rich>
              <a:bodyPr rot="-5400000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Arial"/>
                  </a:defRPr>
                </a:pPr>
                <a:r>
                  <a:rPr b="0" sz="1200" spc="-1" strike="noStrike">
                    <a:solidFill>
                      <a:srgbClr val="000000"/>
                    </a:solidFill>
                    <a:latin typeface="Arial"/>
                  </a:rPr>
                  <a:t>počet klientů</a:t>
                </a:r>
              </a:p>
            </c:rich>
          </c:tx>
          <c:layout>
            <c:manualLayout>
              <c:xMode val="edge"/>
              <c:yMode val="edge"/>
              <c:x val="0.0196069906964612"/>
              <c:y val="0.441931034482759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89350"/>
        <c:crosses val="min"/>
        <c:crossBetween val="midCat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25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3849480" y="-360"/>
            <a:ext cx="2925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4352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1836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5"/>
          </p:nvPr>
        </p:nvSpPr>
        <p:spPr>
          <a:xfrm>
            <a:off x="-360" y="9429480"/>
            <a:ext cx="2925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6"/>
          </p:nvPr>
        </p:nvSpPr>
        <p:spPr>
          <a:xfrm>
            <a:off x="3849480" y="9429480"/>
            <a:ext cx="2925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8204A-48DA-4BB4-9FAE-FF15F4F1BE79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1908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216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19080" y="744480"/>
            <a:ext cx="49611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216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19080" y="744480"/>
            <a:ext cx="49611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216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19080" y="744480"/>
            <a:ext cx="49611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216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19080" y="744480"/>
            <a:ext cx="49611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216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19080" y="744480"/>
            <a:ext cx="49611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216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9080" y="744480"/>
            <a:ext cx="49611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216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1908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216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19080" y="744480"/>
            <a:ext cx="49611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216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19080" y="744480"/>
            <a:ext cx="49611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216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19080" y="744480"/>
            <a:ext cx="4959360" cy="371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216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19080" y="744480"/>
            <a:ext cx="495612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216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9080" y="744480"/>
            <a:ext cx="49611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216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19080" y="744480"/>
            <a:ext cx="49611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216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9080" y="744480"/>
            <a:ext cx="49611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216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19080" y="744480"/>
            <a:ext cx="49611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216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19080" y="744480"/>
            <a:ext cx="49611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216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19080" y="744480"/>
            <a:ext cx="49611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216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19080" y="744480"/>
            <a:ext cx="49611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216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2131-7A2E-47C4-BECF-459E6BEB0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316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515E-AAD0-40A2-B294-0EC59B4A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08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C50A-CA44-4BBB-AA51-05C44385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24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0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24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0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A8C1-033A-42CB-9751-C1D64256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F90B-0635-43B1-8268-5B43FE69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1EEB-30A7-4841-8D0D-E181A537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4344-DF89-4F2B-92B8-DD5C4D2C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0CEE-1B6C-490E-838F-94FCD4A1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090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8091-2583-4102-BFD8-B0083DDE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67E0-B1A2-41A5-97EA-1387826F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08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B0DA-11BB-4458-9336-E61E7D71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7EB9-8754-4C81-9869-C5557695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128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749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1132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0999A-5B81-4481-BCA2-50CDF8D2A620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obcanskeporadny.cz/" TargetMode="External"/><Relationship Id="rId3" Type="http://schemas.openxmlformats.org/officeDocument/2006/relationships/hyperlink" Target="http://www.spotrebitele.info/" TargetMode="External"/><Relationship Id="rId4" Type="http://schemas.openxmlformats.org/officeDocument/2006/relationships/hyperlink" Target="http://www.konzument.cz/" TargetMode="External"/><Relationship Id="rId5" Type="http://schemas.openxmlformats.org/officeDocument/2006/relationships/hyperlink" Target="http://www.probonocentrum.cz/" TargetMode="External"/><Relationship Id="rId6" Type="http://schemas.openxmlformats.org/officeDocument/2006/relationships/hyperlink" Target="http://www.financnitisen.cz/" TargetMode="External"/><Relationship Id="rId7" Type="http://schemas.openxmlformats.org/officeDocument/2006/relationships/slideLayout" Target="../slideLayouts/slideLayout4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obcanskaporadna@seznam.cz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chart" Target="../charts/chart1.xm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0360" y="668160"/>
            <a:ext cx="784692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000080"/>
                </a:solidFill>
                <a:latin typeface="Arial"/>
              </a:rPr>
              <a:t>PREVENCE A RIZIKA ZADLUŽENÍ</a:t>
            </a:r>
            <a:br>
              <a:rPr sz="2400"/>
            </a:br>
            <a:br>
              <a:rPr sz="2400"/>
            </a:b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gram finanční gramotnosti a prevence předlužení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80"/>
                </a:solidFill>
                <a:latin typeface="Arial"/>
                <a:ea typeface="Arial"/>
              </a:rPr>
              <a:t>12. března 2013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80"/>
                </a:solidFill>
                <a:latin typeface="Arial"/>
                <a:ea typeface="Arial"/>
              </a:rPr>
              <a:t>Knihovna Okříšk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40000" y="3827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3840"/>
            <a:ext cx="822636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o se může stát během splácení dlu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Nepředvídatelné událost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336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ezaměstnan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336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em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336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úmrt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Předvídatelné událost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336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ozchod/rozv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336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arození dítě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336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ědictv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336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učení či spoludlužnictv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336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odchod do důchod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23840"/>
            <a:ext cx="822636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ajištění finančních produkt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806436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74640" indent="-674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ěkteré finanční produkty mohou být zajištěné, a to např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4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ástavní právo na věc (např. nemovit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4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ajištění třetí osobou (např. ručitelst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4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rozhodčí dolož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4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směnka a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4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4640" indent="-674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ěkteré finanční produkty mohou být nezajiště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4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bez zajištění předchozími možnostm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3840"/>
            <a:ext cx="822636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o dělat, když nemohu splác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Komunikovat s věřitel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2) Navrhnout splátkový kalendář (zkusit požádat o splacení jistiny – dlužné částk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3) Požádat o snížení nebo odklad splát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4) Přebírat poš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5) Schovávat doklady i po zaplacení úvě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6) Nečekat, že se situace vyřeš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7) Požádat o pomoc (rodina, poradn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3840"/>
            <a:ext cx="822636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lient „u soudu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280" y="1618920"/>
            <a:ext cx="82263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) Nalézací řízení – např.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latební rozk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) Vykonávací řízení –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exekuce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Možnosti provedení exeku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srážky z příjmu (např. ze mzdy, důchodu, opakujících se sociálních dávek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obstavení bankovního úč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zabavení a prodej movitých věc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zabavení a prodej nemovitostí (pozemek, dům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0720" y="179280"/>
            <a:ext cx="809928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Jak se bránit, pokud exekutor zabaví </a:t>
            </a:r>
            <a:br>
              <a:rPr sz="2600"/>
            </a:b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majetek jiné osob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799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19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lastník věci může pod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0" algn="just">
              <a:spcBef>
                <a:spcPts val="799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) Návrh na vyškrtnutí věcí ze soupisu – do 30 dnů ode dne, kdy se majitel věci o soupisu dozvěděl – podává se k exekutor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0" algn="just">
              <a:spcBef>
                <a:spcPts val="799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0" algn="just">
              <a:spcBef>
                <a:spcPts val="799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) Vylučovací žaloba – k soudu do 30 dnů od zamítavého (byť částečně zamítavého) rozhodnutí exeku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0" algn="just">
              <a:spcBef>
                <a:spcPts val="799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0" algn="just">
              <a:spcBef>
                <a:spcPts val="799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)  Dohoda s oprávněným (věřitel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0" algn="just">
              <a:spcBef>
                <a:spcPts val="799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spcBef>
                <a:spcPts val="799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3480"/>
            <a:ext cx="78231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ekalé prakt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4000" y="1079640"/>
            <a:ext cx="822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ůjčování s cílem vydělávat na chudobě lidí, zmocnit se majetku dlužní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ostředkování“ úvěrových smlu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tlak, časová tíse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0" algn="ctr">
              <a:spcBef>
                <a:spcPts val="799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otřebitel má právo vzít si smlouvu o úvěru dom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0" algn="ctr">
              <a:spcBef>
                <a:spcPts val="799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 prostudovat si ji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0" algn="ctr">
              <a:spcBef>
                <a:spcPts val="799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0" algn="ctr">
              <a:spcBef>
                <a:spcPts val="799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OR na společnosti, které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zjišťují příj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gují pouze jako dealeř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jí takovou reklamu, z které nezjistíte, o jakou společnost j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jí komplikované smlouvy (malé písmo, směnky, rozhodčí dolož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tují tučné upomínky, poplat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kterých se platí za předčasné splacení úvě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6720"/>
            <a:ext cx="82119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edváděcí ak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28400" y="1787040"/>
            <a:ext cx="82119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rok n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dstoup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od smlou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o 14 dnů od zakoupení zbož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o 1 měsíce, pokud ještě nebylo dodáno zbož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ez uvedení důvodu a jakékoliv sank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ávo na vrácení peněz do 30 dn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0">
              <a:spcBef>
                <a:spcPts val="700"/>
              </a:spcBef>
              <a:buNone/>
              <a:tabLst>
                <a:tab algn="l" pos="0"/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spoléhejte na možnost odstoupení od smlouvy. Prodejce je často po skončení akce nedohledatelný nebo zcela zanik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81000"/>
            <a:ext cx="821196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izika předváděcích akc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6840" y="1537920"/>
            <a:ext cx="821196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2560" indent="-681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odborná připravenost prodejců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manipulace potenciálním zákazník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útok na citlivé místo spotřebitele – zdraví spotřebitele nebo jeho blízkých – dětí, vnouč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ůrazňování úspory financí, kterou výrobky přines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odvedení pozornosti od vysoké ceny a dlouhodobých závazků výhodami (akční slevou, výhrou, srovnáním s výrobkem jiné znač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oustředěný nátlak na podpis smlouvy bez seznámení se všemi podmínka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ekomunikace při uplatnění spotřebitelských práv (odstoupení od smlouvy, reklama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6720"/>
            <a:ext cx="82119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a co si dát poz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8400" y="1618920"/>
            <a:ext cx="82119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2560" indent="-681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ádné výrobky nemají zázračné účink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hry nebo slevy, které platí jen v jednu chvíli, jsou podezřelé – žádná sleva není zadar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ny jsou předražené – nikdy neodpovídají užitným vlastnostem předváděného zbož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lak na podpis smlouvy je velmi sil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ní čas smlouvu si pozorně přečíst a porozumět 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vědět, co podepisuji, je cesta do probl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dejcům jde o Vaše peníze, ne o zdraví nebo úsporu peně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26720"/>
            <a:ext cx="82119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domní prodej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nergetické společ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6840" y="1644120"/>
            <a:ext cx="82119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2560" indent="-681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louvy na dodávku plynu či elektř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omní prodejci žádají vyúčt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asto se vydávají za zástupce Vašeho stávajícího dodava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platky za předčasné ukončení smlouvy u stávajícího dodava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louvy na dobu určit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lná m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sed taky podepsal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Občanská poradna Třebíč – představení služb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77880" indent="0">
              <a:spcBef>
                <a:spcPts val="799"/>
              </a:spcBef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sociální služb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spcBef>
                <a:spcPts val="799"/>
              </a:spcBef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odborné sociální porad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spcBef>
                <a:spcPts val="799"/>
              </a:spcBef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spcBef>
                <a:spcPts val="799"/>
              </a:spcBef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Principy služ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spcBef>
                <a:spcPts val="799"/>
              </a:spcBef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strannost, nezávislost, anonymita,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ezplat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spcBef>
                <a:spcPts val="799"/>
              </a:spcBef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spcBef>
                <a:spcPts val="799"/>
              </a:spcBef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abízí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7880" indent="-66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formace, rady, aktivní pomoc, asistenc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7880" indent="-66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moc se sepsáním návrhů, žádostí, vysvětlení obsahů dokumentů apo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7880" indent="-66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kytujeme ambulantní (Třebíč, Moravské Budějovice) a terénní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5280"/>
            <a:ext cx="8211960" cy="15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ožnost odstoupení od smlou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6840" y="1644120"/>
            <a:ext cx="82119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ost odstoupení od smlouvy na dodávku energie uzavřené při podomním prode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odle aktuální právní úpravy (§ 11a z. č. 458/2000 Sb. Energetický zák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do 5 dnů před zahájením dodávky elektřiny nebo ply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ísem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bez uvedení důvo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bez jakékoliv san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23840"/>
            <a:ext cx="822636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ak chránit důchod před exeku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4000" y="1346040"/>
            <a:ext cx="8226360" cy="76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) Nechoďte na předváděcí ak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) Nezvěte si domů dealery, nepouštějte cizí lidi do by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) Nepodepisujte smlouvu v časové tísni (např. na ulic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4) Nepodepisujte smlouvu, kterou jste nečetli nebo které nerozumí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5) Pokud smlouvu podepíšete, nedávejte originál z ru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6) Využijte pomoci rodiny či poradny, zkuste zboží vrátit, odstoupit od smlou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7) Neberte si úvěr svým jménem pro jinou oso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8) Pokud svolíte k ručení, zvažte, zda budete schopni případný závazek uhrad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9) Braňte se – obraťte se na odborní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0) Pokud již máte exekuci na důchod, požádejte o pomoc rodinu, aby se úroky a poplatky nezvyšov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3840"/>
            <a:ext cx="822636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ávní minimum a závěrečné doporu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ředváděcí akce – možnost odstoupení od smlouvy do 14 dnů od jejího uzavření (písemně na dodejku společně se zbožím odeslat na firmu, nezapomenout vypovědět i úvěrovou smlouvu a pojištění úvěru či plnou moc), příp. 1 měsíc (pokud ještě nedošlo k dodávce zboží), resp. 1 rok (pokud nebyl spotřebitel upozorněn na možnost odstoupe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) Pečlivě si prostudujte smlouvy, využijte pomoci odborní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)  Dluhy přecházejí do dědického 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) Řešte především dluhy, kvůli kterým můžete přijít o střechu nad hlavou, energie nebo svob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) Splácejte i malé částky, ale pravidel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) Reagujte na dopisy věřite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7) Komunikujte s věřiteli písemně, ústní dohody se těžko prokazuj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8) Využijte služeb občanských poraden – je to ZDAR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Užitečné odkaz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14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sociace občanských poraden (AO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obcanskeporadny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nanční arbitr České republi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2300dc"/>
                </a:solidFill>
                <a:latin typeface="Arial"/>
              </a:rPr>
              <a:t>www.finarbitr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eská obchodní inspe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2300dc"/>
                </a:solidFill>
                <a:latin typeface="Arial"/>
              </a:rPr>
              <a:t>www.coi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družení obrany spotřebitelů (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spotrebitele.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401184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Sdružení českých spotřebite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4"/>
              </a:rPr>
              <a:t>www.konzument.cz</a:t>
            </a:r>
            <a:r>
              <a:rPr b="0" lang="cs-CZ" sz="1800" spc="-1" strike="noStrike">
                <a:solidFill>
                  <a:srgbClr val="2300dc"/>
                </a:solidFill>
                <a:latin typeface="Arial"/>
                <a:ea typeface="Microsoft YaHe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Sdružení S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2300dc"/>
                </a:solidFill>
                <a:latin typeface="Arial"/>
                <a:ea typeface="Microsoft YaHei"/>
              </a:rPr>
              <a:t>www.pomocsdluhy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Pro bono cen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5"/>
              </a:rPr>
              <a:t>www.probonocentrum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Poradna při finanční tís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6"/>
              </a:rPr>
              <a:t>www.financnitisen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6480" y="-484200"/>
            <a:ext cx="764244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ěkujeme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1620360"/>
            <a:ext cx="822168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gr. Miroslava Lapešová, Bc. Radmila Šim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bčanská poradna Třebí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erovského 126/6, Třebí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chod po schodišti z ulice Přerovského nebo výtahem z Martinského ná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l.: 568 845 348, mobil: 724 304 7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obcanskaporadna@seznam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bčanská poradna Moravské Budějo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ám. Míru 26, 676 02 Moravské Budějo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obil: 777 720 1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canskaporadna.mb@seznam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26720"/>
            <a:ext cx="82263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 CE"/>
              </a:rPr>
              <a:t>oradenské oblast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 C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Dluhová problemat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Pracovní právo a zaměstna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Rodinné a mezilidské vztah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Majetkové vzta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Ochrana spotřebi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Byd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Sociální dávky a sociální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Veřejná sprá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Trestní prá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Občanské soudní říz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a další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o občanská poradna neposkytu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0360" y="2519280"/>
            <a:ext cx="850104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ní krizovým cent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poskytuje právní zastoup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půjčuje pení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věnuje se daňovému a investičnímu poradenství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799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oradně nepracují právníci ani psychologové, ale odborní vyškolení poradc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799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6720"/>
            <a:ext cx="82263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luhy řešené OP Třebí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4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39640" y="1440000"/>
          <a:ext cx="8280360" cy="521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23840"/>
            <a:ext cx="822636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o vede lidi k zadluž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nadný přístup k půjčk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nížení příjmů (např. ztráta zaměstnání, nemo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htějí ihned všechno, co se jim líbí (např. dovolená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hybějící finanční gramotnost, lidé neumějí hospodařit s penězi, krátkodobé plán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vlivnění reklamou, osobnost spotřebi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ivotní události (narození dítěte, rozvod, živelná pohro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799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799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799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3840"/>
            <a:ext cx="822636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ospodaření domác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77880" indent="0">
              <a:spcBef>
                <a:spcPts val="799"/>
              </a:spcBef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estavení osobního rozpočt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7880" indent="-674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kladní výdaje – bydlení, služby, doprava, strava, zdraví, hygiena, děti, volný čas, ošacení, daně, pojištění, rezervy, splátky úvěru a dalš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7880" indent="-674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vláštní výdaje – narozeniny, Vánoce, dovolená, opravy/údržba, jednorázové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spcBef>
                <a:spcPts val="799"/>
              </a:spcBef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spcBef>
                <a:spcPts val="799"/>
              </a:spcBef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zervy - doporuč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7880" indent="-674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átkodobé – 5x měsíční mzda (důchod), ztráta zaměstnání, nem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7880" indent="-674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louhodobé rezervy – 18x měsíční mzda (důchod), pořízení bydlení, auta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spcBef>
                <a:spcPts val="799"/>
              </a:spcBef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spcBef>
                <a:spcPts val="799"/>
              </a:spcBef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23840"/>
            <a:ext cx="822636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odpovědné“ zadluž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třebuji danou vě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mohu danou věc pořídit jiným způsob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hradím dluh v rámci běžného rodinného rozpočt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hu dluh uhradit ze svých rezerv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hu využít pomoci rodiny či blízkých osob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možnosti zadlužení –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pečlivé zvážení nabízeného produktu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splácejte dluhy jiným úvěre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ručte za malou částku velkým majetke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podepisujte úvěr v časové tísn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zkoušejte si, zda jste schopni odkládat si peníz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1600200"/>
            <a:ext cx="822636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kladní doporuče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ení vhodné zadlužit se na věc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jejíž životnost je kratší než doba splác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klad č. 1: Lednice mi bude sloužit 5 let, ale splatím ji za 1 r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klad č. 2: Dovolenou si užiji 2 týdny, ale budu ji splácet 1 r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KrejcovaK</cp:lastModifiedBy>
  <cp:lastPrinted>2012-11-16T10:16:04Z</cp:lastPrinted>
  <dcterms:modified xsi:type="dcterms:W3CDTF">2009-03-20T12:37:41Z</dcterms:modified>
  <cp:revision>20</cp:revision>
  <dc:subject/>
  <dc:title>Snímek 1</dc:title>
</cp:coreProperties>
</file>