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Vývoj počtu klientů OP Třebíč
Dluhová oblast</a:t>
            </a:r>
          </a:p>
        </c:rich>
      </c:tx>
      <c:layout>
        <c:manualLayout>
          <c:xMode val="edge"/>
          <c:yMode val="edge"/>
          <c:x val="0.372706721154682"/>
          <c:y val="0.029931034482758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74984783931832"/>
          <c:y val="0.204827586206897"/>
          <c:w val="0.768759238327102"/>
          <c:h val="0.540551724137931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očet klientů</c:v>
                </c:pt>
              </c:strCache>
            </c:strRef>
          </c:tx>
          <c:spPr>
            <a:solidFill>
              <a:srgbClr val="ff3333"/>
            </a:solidFill>
            <a:ln w="28800">
              <a:solidFill>
                <a:srgbClr val="ff3333"/>
              </a:solidFill>
              <a:round/>
            </a:ln>
          </c:spPr>
          <c:marker>
            <c:symbol val="square"/>
            <c:size val="8"/>
            <c:spPr>
              <a:solidFill>
                <a:srgbClr val="ff3333"/>
              </a:solidFill>
            </c:spPr>
          </c:marker>
          <c:dLbls>
            <c:numFmt formatCode="General" sourceLinked="0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07</c:v>
                </c:pt>
                <c:pt idx="1">
                  <c:v>2008</c:v>
                </c:pt>
                <c:pt idx="2">
                  <c:v>2009</c:v>
                </c:pt>
                <c:pt idx="3">
                  <c:v>2010</c:v>
                </c:pt>
                <c:pt idx="4">
                  <c:v>2011</c:v>
                </c:pt>
                <c:pt idx="5">
                  <c:v>201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89</c:v>
                </c:pt>
                <c:pt idx="1">
                  <c:v>234</c:v>
                </c:pt>
                <c:pt idx="2">
                  <c:v>329</c:v>
                </c:pt>
                <c:pt idx="3">
                  <c:v>260</c:v>
                </c:pt>
                <c:pt idx="4">
                  <c:v>397</c:v>
                </c:pt>
                <c:pt idx="5">
                  <c:v>56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5859942"/>
        <c:axId val="78017669"/>
      </c:lineChart>
      <c:catAx>
        <c:axId val="25859942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1200" spc="-1" strike="noStrike">
                    <a:solidFill>
                      <a:srgbClr val="000000"/>
                    </a:solidFill>
                    <a:latin typeface="Arial"/>
                  </a:rPr>
                  <a:t>období</a:t>
                </a:r>
              </a:p>
            </c:rich>
          </c:tx>
          <c:layout>
            <c:manualLayout>
              <c:xMode val="edge"/>
              <c:yMode val="edge"/>
              <c:x val="0.488392313711851"/>
              <c:y val="0.930827586206897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17669"/>
        <c:crosses val="autoZero"/>
        <c:auto val="1"/>
        <c:lblAlgn val="ctr"/>
        <c:lblOffset val="100"/>
        <c:noMultiLvlLbl val="0"/>
      </c:catAx>
      <c:valAx>
        <c:axId val="78017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1200" spc="-1" strike="noStrike">
                    <a:solidFill>
                      <a:srgbClr val="000000"/>
                    </a:solidFill>
                    <a:latin typeface="Arial"/>
                  </a:rPr>
                  <a:t>počet klientů</a:t>
                </a:r>
              </a:p>
            </c:rich>
          </c:tx>
          <c:layout>
            <c:manualLayout>
              <c:xMode val="edge"/>
              <c:yMode val="edge"/>
              <c:x val="0.0196069906964612"/>
              <c:y val="0.44193103448275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59942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49480" y="-360"/>
            <a:ext cx="2925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4352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1836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9429480"/>
            <a:ext cx="2925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49480" y="9429480"/>
            <a:ext cx="2925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5BDD5-E307-4588-AAC7-6932CFE276F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908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908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9080" y="744480"/>
            <a:ext cx="495936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9080" y="744480"/>
            <a:ext cx="495612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9080" y="744480"/>
            <a:ext cx="49611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16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00D-6296-4DBA-98A3-0B2A68F1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E13-7EA7-4F72-BD96-24329C70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F0F-8767-4920-ADF6-765023DE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CAC-8948-4A15-B4F8-B2CFE818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5BB-0673-41ED-A582-9C627B89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48A-8F23-48D0-9D88-BA2E5B1D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6CC-562C-4300-93CE-734EAE2A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B9A-76C3-4908-B107-4E89FA95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ED5-CE4A-4372-B92A-27FC7F74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AD3-4282-475D-A76C-61D58A4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2B9-8EE5-4791-9231-B9F6A45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199-1CFC-4B04-8615-4E35031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28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749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13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FB654-E097-4A4C-8695-CD948A509C0F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bcanskeporadny.cz/" TargetMode="External"/><Relationship Id="rId3" Type="http://schemas.openxmlformats.org/officeDocument/2006/relationships/hyperlink" Target="http://www.spotrebitele.info/" TargetMode="External"/><Relationship Id="rId4" Type="http://schemas.openxmlformats.org/officeDocument/2006/relationships/hyperlink" Target="http://www.konzument.cz/" TargetMode="External"/><Relationship Id="rId5" Type="http://schemas.openxmlformats.org/officeDocument/2006/relationships/hyperlink" Target="http://www.probonocentrum.cz/" TargetMode="External"/><Relationship Id="rId6" Type="http://schemas.openxmlformats.org/officeDocument/2006/relationships/hyperlink" Target="http://www.financnitisen.cz/" TargetMode="External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obcanskaporadna@seznam.cz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668160"/>
            <a:ext cx="78469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80"/>
                </a:solidFill>
                <a:latin typeface="Arial"/>
              </a:rPr>
              <a:t>PREVENCE A RIZIKA ZADLUŽENÍ</a:t>
            </a: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gram finanční gramotnosti a prevence předlužení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80"/>
                </a:solidFill>
                <a:latin typeface="Arial"/>
                <a:ea typeface="Arial"/>
              </a:rPr>
              <a:t>12. března 2013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80"/>
                </a:solidFill>
                <a:latin typeface="Arial"/>
                <a:ea typeface="Arial"/>
              </a:rPr>
              <a:t>Knihovna Okříšk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40000" y="3827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se může stát během splácení dlu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předvídatelné událos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zaměstna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m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mr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Předvídatelné událos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chod/rozv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rození dítě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ědic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učení či spoludlužnic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dchod do důcho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jištění finančních produkt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064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4640" indent="-67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finanční produkty mohou být zajištěné, a to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stavní právo na věc (např. nemovit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ajištění třetí osobou (např. ručitel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rozhodčí dolo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měnka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finanční produkty mohou být nezajiště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7464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ez zajištění předchozími možnost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dělat, když nemohu splác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Komunikovat s věřite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2) Navrhnout splátkový kalendář (zkusit požádat o splacení jistiny – dlužné částk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3) Požádat o snížení nebo odklad splát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4) Přebírat poš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5) Schovávat doklady i po zaplacení úvě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6) Nečekat, že se situace vyřeš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7) Požádat o pomoc (rodina, poradn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lient „u soud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618920"/>
            <a:ext cx="82263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Nalézací řízení – např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atební roz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) Vykonávací řízení –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exekuc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Možnosti provedení exek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srážky z příjmu (např. ze mzdy, důchodu, opakujících se sociálních dáve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bstavení bankovního úč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zabavení a prodej movitých věc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zabavení a prodej nemovitostí (pozemek, dům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80992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Jak se bránit, pokud exekutor zabaví 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majetek jiné oso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astník věci může pod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Návrh na vyškrtnutí věcí ze soupisu – do 30 dnů ode dne, kdy se majitel věci o soupisu dozvěděl – podává se k exekutor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) Vylučovací žaloba – k soudu do 30 dnů od zamítavého (byť částečně zamítavého) rozhodnutí exeku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)  Dohoda s oprávněným (věřite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just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3480"/>
            <a:ext cx="78231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kalé prakt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4000" y="1079640"/>
            <a:ext cx="822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jčování s cílem vydělávat na chudobě lidí, zmocnit se majetku dlužní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ostředkování“ úvěrových smlu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tlak, časová tís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třebitel má právo vzít si smlouvu o úvěru dom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prostudovat si ji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 algn="ctr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 na společnosti, kter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zjišťují příj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ují pouze jako deale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takovou reklamu, z které nezjistíte, o jakou společnost j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 komplikované smlouvy (malé písmo, směnky, rozhodčí dolo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ují tučné upomínky, popl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kterých se platí za předčasné splacení úvě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11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dváděcí 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400" y="17870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n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stoup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d smlou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 14 dnů od zakoupení zbož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 1 měsíce, pokud ještě nebylo dodáno zbož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ez uvedení důvodu a jakékoliv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ávo na vrácení peněz do 30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0">
              <a:spcBef>
                <a:spcPts val="700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poléhejte na možnost odstoupení od smlouvy. Prodejce je často po skončení akce nedohledatelný nebo zcela zanik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81000"/>
            <a:ext cx="82119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izika předváděcích ak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537920"/>
            <a:ext cx="821196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dborná připravenost prodejc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anipulace potenciálním zákazník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tok na citlivé místo spotřebitele – zdraví spotřebitele nebo jeho blízkých – dětí, vnouč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ůrazňování úspory financí, kterou výrobky přines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dvedení pozornosti od vysoké ceny a dlouhodobých závazků výhodami (akční slevou, výhrou, srovnáním s výrobkem jiné znač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oustředěný nátlak na podpis smlouvy bez seznámení se vše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komunikace při uplatnění spotřebitelských práv (odstoupení od smlouvy, reklama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11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co si dát poz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8400" y="1618920"/>
            <a:ext cx="8211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né výrobky nemají zázračné účin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ry nebo slevy, které platí jen v jednu chvíli, jsou podezřelé – žádná sleva není zadar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y jsou předražené – nikdy neodpovídají užitným vlastnostem předváděného zbo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lak na podpis smlouvy je velmi sil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 čas smlouvu si pozorně přečíst a porozumět 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ědět, co podepisuji, je cesta do probl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cům jde o Vaše peníze, ne o zdraví nebo úsporu peně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11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omní prodej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nergetické společ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8211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louvy na dodávku plynu či elektř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omní prodejci žádají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asto se vydávají za zástupce Vašeho stávajícího dod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latky za předčasné ukončení smlouvy u stávajícího dod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louvy na dobu urči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á m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ed taky podepsa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bčanská poradna Třebíč – představení služ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sociální služ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dborné sociální 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incipy služ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trannost, nezávislost, anonymita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ezplat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bízí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6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ce, rady, aktivní pomoc, asisten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6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 se sepsáním návrhů, žádostí, vysvětlení obsahů dokumentů ap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6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kytujeme ambulantní (Třebíč, Moravské Budějovice) a terén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5280"/>
            <a:ext cx="821196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žnost odstoupení od smlou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8211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odstoupení od smlouvy na dodávku energie uzavřené při podomním prode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dle aktuální právní úpravy (§ 11a z. č. 458/2000 Sb. Energetický zák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o 5 dnů před zahájením dodávky elektřiny nebo ply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ísem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ez uvedení dův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ez jakékoliv sa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ak chránit důchod před exeku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4000" y="1346040"/>
            <a:ext cx="8226360" cy="76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Nechoďte na předváděcí ak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) Nezvěte si domů dealery, nepouštějte cizí lidi do b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) Nepodepisujte smlouvu v časové tísni (např. na uli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) Nepodepisujte smlouvu, kterou jste nečetli nebo které nerozumí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) Pokud smlouvu podepíšete, nedávejte originál z ru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) Využijte pomoci rodiny či poradny, zkuste zboží vrátit, odstoupit od smlou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) Neberte si úvěr svým jménem pro jinou oso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) Pokud svolíte k ručení, zvažte, zda budete schopni případný závazek uhra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) Braňte se – obraťte se na odborní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) Pokud již máte exekuci na důchod, požádejte o pomoc rodinu, aby se úroky a poplatky nezvyšov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ávní minimum a závěrečné dopor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edváděcí akce – možnost odstoupení od smlouvy do 14 dnů od jejího uzavření (písemně na dodejku společně se zbožím odeslat na firmu, nezapomenout vypovědět i úvěrovou smlouvu a pojištění úvěru či plnou moc), příp. 1 měsíc (pokud ještě nedošlo k dodávce zboží), resp. 1 rok (pokud nebyl spotřebitel upozorněn na možnost odstoup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Pečlivě si prostudujte smlouvy, využijte pomoci odbor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  Dluhy přecházejí do dědick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) Řešte především dluhy, kvůli kterým můžete přijít o střechu nad hlavou, energie nebo svob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) Splácejte i malé částky, ale pravidel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) Reagujte na dopisy věřit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) Komunikujte s věřiteli písemně, ústní dohody se těžko prokaz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) Využijte služeb občanských poraden – je to ZDA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Užitečné od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14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ociace občanských poraden (AO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obcanskeporadn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arbitr České repub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00dc"/>
                </a:solidFill>
                <a:latin typeface="Arial"/>
              </a:rPr>
              <a:t>www.finarbitr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á obchodní insp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00dc"/>
                </a:solidFill>
                <a:latin typeface="Arial"/>
              </a:rPr>
              <a:t>www.co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ružení obrany spotřebitelů (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potrebitele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401184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družení českých spotřebit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4"/>
              </a:rPr>
              <a:t>www.konzument.cz</a:t>
            </a:r>
            <a:r>
              <a:rPr b="0" lang="cs-CZ" sz="1800" spc="-1" strike="noStrike">
                <a:solidFill>
                  <a:srgbClr val="2300dc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družení S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00dc"/>
                </a:solidFill>
                <a:latin typeface="Arial"/>
                <a:ea typeface="Microsoft YaHei"/>
              </a:rPr>
              <a:t>www.pomocsdluh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 bono 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5"/>
              </a:rPr>
              <a:t>www.probonocentrum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oradna při finanční tís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6"/>
              </a:rPr>
              <a:t>www.financnitisen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6480" y="-484200"/>
            <a:ext cx="76424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620360"/>
            <a:ext cx="8221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Miroslava Lapešová, Bc. Radmila Šim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čanská poradna Třebí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rovského 126/6, Třebí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chod po schodišti z ulice Přerovského nebo výtahem z Martinského ná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l.: 568 845 348, mobil: 724 304 7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obcanskaporadna@seznam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čanská poradna Moravské Budějo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m. Míru 26, 676 02 Moravské Budějo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bil: 777 720 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canskaporadna.mb@seznam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63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 CE"/>
              </a:rPr>
              <a:t>oradenské oblast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 C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Dluhová problema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Pracovní právo a zaměstn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Rodinné a mezilidské vzta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Majetkové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Ochrana spotřebi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Byd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Sociální dávky a sociál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Veřejná s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Trestní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Občanské soudní ří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 CE"/>
              </a:rPr>
              <a:t>a další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občanská poradna neposkyt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2519280"/>
            <a:ext cx="85010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ní krizovým cent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oskytuje právní zastoup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ůjčuje pení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věnuje se daňovému a investičnímu poradenstv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oradně nepracují právníci ani psychologové, ale odborní vyškolení porad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6720"/>
            <a:ext cx="82263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luhy řešené OP Třebí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9640" y="1440000"/>
          <a:ext cx="8280360" cy="521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vede lidi k zadlu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adný přístup k půjčk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ížení příjmů (např. ztráta zaměstnání, nem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tějí ihned všechno, co se jim líbí (např. dovole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ybějící finanční gramotnost, lidé neumějí hospodařit s penězi, krátkodobé plán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reklamou, osobnost spotřebi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ní události (narození dítěte, rozvod, živelná pohr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ospodaření domác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ení osobního rozpoč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7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výdaje – bydlení, služby, doprava, strava, zdraví, hygiena, děti, volný čas, ošacení, daně, pojištění, rezervy, splátky úvěru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7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láštní výdaje – narozeniny, Vánoce, dovolená, opravy/údržba, jednorázov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zervy - doporu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7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tkodobé – 5x měsíční mzda (důchod), ztráta zaměstnání, ne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-67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ouhodobé rezervy – 18x měsíční mzda (důchod), pořízení bydlení, auta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spcBef>
                <a:spcPts val="799"/>
              </a:spcBef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3840"/>
            <a:ext cx="82263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odpovědné“ zadlu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řebuji danou vě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mohu danou věc pořídit jiným způsob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hradím dluh v rámci běžného rodinného rozpočt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hu dluh uhradit ze svých rezer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hu využít pomoci rodiny či blízkých os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možnosti zadlužení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ečlivé zvážení nabízeného produkt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plácejte dluhy jiným úvěr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ručte za malou částku velkým majetk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odepisujte úvěr v časové tís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zkoušejte si, zda jste schopni odkládat si peníz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600200"/>
            <a:ext cx="822636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oporuč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ní vhodné zadlužit se na vě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jíž životnost je kratší než doba splá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 č. 1: Lednice mi bude sloužit 5 let, ale splatím ji za 1 r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 č. 2: Dovolenou si užiji 2 týdny, ale budu ji splácet 1 r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KrejcovaK</cp:lastModifiedBy>
  <cp:lastPrinted>2012-11-16T10:16:04Z</cp:lastPrinted>
  <dcterms:modified xsi:type="dcterms:W3CDTF">2009-03-20T12:37:41Z</dcterms:modified>
  <cp:revision>20</cp:revision>
  <dc:subject/>
  <dc:title>Snímek 1</dc:title>
</cp:coreProperties>
</file>